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0AF-B64F-42EB-A24E-3336D0E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067-B0D2-43D6-8518-8395F8B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F3F-FB69-4219-8C41-C27EA751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97D-EE60-433A-AAA3-1753EB08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DD4-8EEC-4ECC-B9DF-5B18006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542-F4EB-424E-B3FF-61EFFB9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6E2-8950-46F4-8174-CB257F3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D2A-FE08-4F4D-99F4-7DF53638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F07-0D26-4FA7-81DF-6CBD0026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E2D-83E6-40B2-8874-57002B1B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A4B-A022-4E62-A491-440942C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571-2007-47B1-A146-A8FBC4D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CEE-DDCB-4527-863B-EBB56C04A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1 Bože náš, kde ten oheň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 náš, kde ten oheň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tvojich verných horie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e dar pravdy presvät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jeden z nich mrieť neváh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je ten duch, čo vyzbroj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raháma tou dôv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ľudu tvojmu všetkých či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zorom viery, oporo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je duch vďaky úprim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m ti Dávid piesne hr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lásky, čo h nauč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ebe, Bože, prednosť d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je duch, ktorým Eliá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Bálom slávne zvíťaz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jžiš tvár tvoju vidieť sm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ób ťažkú skúšku podstúp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páľ aj v nás ten viery plam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pomôž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nám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verne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pravde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stáť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o sŕdc tebe oddaných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ráč hojnosť svojho ducha vliať.</a:t>
            </a:r>
            <a:br>
              <a:rPr sz="47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51:56Z</dcterms:modified>
  <cp:revision>20</cp:revision>
  <dc:subject/>
  <dc:title>Je veľký náš Pán, on slávy je Kráľ Nech do všetkých strán  spev vrúcnych znie chvál.</dc:title>
</cp:coreProperties>
</file>